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emf" ContentType="image/x-emf"/>
  <Override PartName="/ppt/media/image4.jpeg" ContentType="image/jpeg"/>
  <Override PartName="/ppt/media/image9.pct" ContentType="image/x-pict"/>
  <Override PartName="/ppt/media/image5.emf" ContentType="image/x-emf"/>
  <Override PartName="/ppt/media/image6.jpeg" ContentType="image/jpe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592-F21D-424B-8F29-69F06B4C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B57-4B3B-41C9-ABCB-0CD6F018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5DA-2A26-4C7A-B8F3-9D1A0CBD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140-D063-4C20-857A-68F04BE9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436-E05D-45DE-81CC-AF8691F6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26D1-FD87-41FF-BBD6-7A03CE8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E259-DCE6-4237-9A38-1DB4A7E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263-EA9D-403F-B2F7-8F24C25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E6A2-8BA1-4246-B97E-C7D49B76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66D-D571-4A7A-A9CB-0576E47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2232-948F-476B-960D-A88ED8C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B65-A956-4DA4-AFDD-073EE27D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ABC-A6A0-4C14-9F18-CB6704F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DCAC-40A0-4217-B628-A2AD5DD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DAB3-52AF-4159-AF2F-D9E8881F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E00E-4B99-4A93-B6F1-CB2126BF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DCC-7040-4721-9DD3-16E887A8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D40-90C4-48E4-BA4E-80983E72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87D-777A-4FA8-840A-CBA7075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1EA-15DE-44E8-8816-EEA8B15E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743-B465-47DC-B039-FBF57BC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33C-96F1-4D20-BAB7-FBCC7BE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1CD-FBAF-42A7-99E1-A2E4A42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664-1B29-4FD6-B748-44979E4E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68F-9E06-4C7C-896C-4506EB200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781-71C6-4970-9170-7C817276D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e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anti-drug laws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ttany Smel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2514600"/>
            <a:ext cx="464832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SvtyTwo ITC TT-Bold"/>
              </a:rPr>
              <a:t>What were the effects of the anti-drug laws created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SvtyTwo ITC TT-Bold"/>
              </a:rPr>
              <a:t>Brittany Smel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086600" cy="337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48240" y="33526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</a:rPr>
              <a:t>070621_haight_hlg_3p.hlarg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7339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he Drug Culture of the 1960s and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95680"/>
            <a:ext cx="4038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Riding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the influence of music an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arijuana and psychedel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495680"/>
            <a:ext cx="38102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out of the cities and into the sub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Summer of Love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Haight and Ash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581280" y="4419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720" y="6643800"/>
            <a:ext cx="41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.realone.com/assets/rn/img/5/5/2/7/15287255-15287258-slarg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overnment Efforts to Control the Use and Trafficking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5720"/>
            <a:ext cx="9144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65: Drug Abuse Control Amendmen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Government produces little acts or laws to handle drug abuse  in the 1960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release propaganda films in order to frighten society away from drug u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(Reefer Mad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outcome? BACKFIR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ORML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arcotics Treatment Administration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Soldiers in Vietnam develop heroin addi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Nixon declares war on dru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The Office of Drug Abuse Law Enforcement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Ford administration releases White Paper on Drug Abuse.(white paper meaning high population drug, but low risk exp. Mariju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Large cocaine seizure indicates significant growth of cocaine t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Carter's drug czar, Dr. Peter Bourne does not view marijuana, or even cocaine, as a serious public health th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197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Cocaine trade becomes increasingly vio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01200" y="4876920"/>
            <a:ext cx="336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%3Fq%3Danti-drug%2Blaws%26gbv%3D2%26hl%3Den%26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%3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The Effect of Government Anti-drug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52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The Effects of Government Anti-drug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4038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mocked,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oo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lamorized b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uban and Panama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540160" cy="444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97360" y="5943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Carlos Leh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4812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14800" y="38862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Norman's 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"/>
              </a:rPr>
              <a:t>1980s: King Pens and 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iami's Dadeland Mall (1979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Rise of the Medellin cartel (1981 - 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U.S. and Colombia extradition treaty ratif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(1981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Downfall of Norman's Cay (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Largest cocaine seizure ever: $100 mill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sum (Medellin cartel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Nancy Reagan's "Just Say No" Mov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begin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Tranquilandia bust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20760" cy="439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84480" y="5334120"/>
            <a:ext cx="319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chathamjournal.com/weekly/moxiepix/a2958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9092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Has it changed y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07:56Z</dcterms:created>
  <dc:creator>PA Department of Education</dc:creator>
  <dc:description/>
  <dc:language>en-US</dc:language>
  <cp:lastModifiedBy>PA Department of Education</cp:lastModifiedBy>
  <dcterms:modified xsi:type="dcterms:W3CDTF">2008-05-29T13:57:20Z</dcterms:modified>
  <cp:revision>5</cp:revision>
  <dc:subject/>
  <dc:title>What were the effects of the anti-drug laws in the 1960s and 1970s?</dc:title>
</cp:coreProperties>
</file>